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F15-C406-4487-87A7-D0C30B85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B88-45BA-41DE-8624-37F71522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272-4C21-453F-BADC-F34AE544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6E6-6944-4669-8457-F1BD3A6B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96AB-CEBB-4498-A41D-405111FC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4443-59AF-4DFD-9062-FB47A25B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B397-0B9D-4604-9444-1BE43270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98B2-D2C7-4FAA-B88B-69DF7D9D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671B-FD3D-4C12-A2B2-1573A838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19EF-0CF7-4BEA-80D6-F28A1B4B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FEE7-08F3-4687-B772-9C9B107D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FC8-7655-4504-BD7F-CA76EE8E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745E-E075-4D59-BDD4-144D94A2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070F-09B8-4A57-882B-2559AED0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348E-17DF-4892-AD53-C3F5B4CC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FE38-EF46-4266-9DD5-2140D283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9683-D26E-4238-84BE-234BD2E1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44D47-9293-41D1-9611-FEBA57C3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AF030-DE08-49DE-BF48-79E5AD3F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D9CB9-3CF3-44CB-8CBA-F52D8A5E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C79B8-FB4A-4161-B220-93DA7260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26E4F-34EB-4A86-A59E-12A8E7AA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57A-28C9-4FE7-AF5C-7148F2B2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A46E2-65B0-41D6-9F6E-D799144F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1F104-F0F7-4D1F-A081-54714F09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7FB7C-2BC2-47D2-B149-2941D31F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79763-4D46-4119-8DB6-A7DB36A7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4AC84-E791-4B7A-8403-4CD3B9A0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DF84C-1B11-4DF5-B298-0E64CC60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44FD7-3221-4646-B777-3BE7FBF2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876BC-0DA6-4549-87D0-B7C34E58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ABF24-4615-4926-A170-3FE48A61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53098-9DD5-43A8-A9DE-4A806018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E55-054D-464B-8BC3-653EC911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8AAA2-F223-4A0A-B8F7-28756718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560D5-B39E-46A5-B11F-90F91FB2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B1D74-3DB5-481F-B19B-31222500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55937-DA2B-4265-9EBB-586B3FA3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F99E6-174F-48B1-878C-23139534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1CA17-D423-4D3E-975B-B6A71068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86FA2-5D2D-4698-A025-1F6A35B9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A5DDF-583A-4B63-B944-42F5262F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8CF5C-CFB8-45FE-ACE0-50CDB44C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636-11E6-4460-9CAC-73AE44BB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2B6-AA0E-423B-B156-18D319C5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D50-421E-4B5F-A1D0-C9FD4920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984-C993-43D1-8277-A4FFDEF4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546-D09F-488F-9307-EB26BFFF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A31F-4AB0-45F7-B7BE-E16CDCA619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0CE9-33D2-42A0-BA51-2FBD393EB8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E622-CE28-4E7E-8719-655E8CDE9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C194-451F-471F-82B7-8A7165C1D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5th Grade Social Studi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9810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udents should realize their current position in the world is a result of hundreds of years of movement of people and ideas.  As adolescent Americans, they come to realize the global community is more easily accessible than expected due to technology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istorical Contex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istory of the United States dates back about 400 yea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istory of China and Vietnam both date back more than dates back more than 2,000 year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Impact of War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Vietnam, the Vietnam War is referred to as the U.S. W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,000,000 Vietnamese (10% of the population) were killed or woun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Influence of Invention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pow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e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297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imilarities and Differences Among Cultur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pite the thousands of miles of separation, people of China, Vietnam, and America are, well…just peop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basic needs are the same, but some of our cultural values vary because of history and lo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imilarities and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 is valued and teachers are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ests are often treated with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, music and literature are all important in the different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ing face” is important in China and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of nutritional value is considered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 of the same sex might hold hands in public, but not men and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hina, Vietnam…or Raleigh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ill view a picture each day with a caption, and they will have to decide if the picture is from far-away destinations such as China or Vietnam, or if it was taken in their city of residence -- Raleig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will make them realize the Western influences present in Asia, as well as the Asian influences in their hometow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hina, Vietnam, or Ralei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4876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w beef, peanuts, jalapenos, mint, and shrimp cra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613480" cy="3757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14400" y="5867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 Cali Noodle House in Raleig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Diversity Fact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na has 1.3 billion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ore than 50 minority groups in Ch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nited States has 300 million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tnam has 80 million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ore than 50 minority groups in Vietn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hich Countries are Represented by the Students in our Room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nd your parents have brought customs and beliefs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r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57800" y="2743200"/>
            <a:ext cx="2544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urrent Event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8 Olympics in Ch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ngth of China’s economy as the U.S. economy fal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ming Vietnamese econom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an rights and fair pay for work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Movement of Goods, People and Idea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percentage of our shirts, shoes and book bags in this class were made in China?  Vietnam?  The United Stat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23:50:57Z</dcterms:created>
  <dc:creator>William Wheeler</dc:creator>
  <dc:description/>
  <dc:language>en-US</dc:language>
  <cp:lastModifiedBy> </cp:lastModifiedBy>
  <dcterms:modified xsi:type="dcterms:W3CDTF">2008-04-24T01:55:27Z</dcterms:modified>
  <cp:revision>32</cp:revision>
  <dc:subject/>
  <dc:title>5th Grade Social Studies</dc:title>
</cp:coreProperties>
</file>